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2AEC2-951F-4B6C-8D1E-5A7015D7D9A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ica Claro que este grupo de amigos sofre de diversidade de preferências. Eles querem sair juntos, mas para lugares diferentes. Como resolver este problem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8644B-9427-45CC-8126-A9426B1F7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9DFA4-09D7-4342-84AB-77B5B0862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64D02-C9EA-4F3A-AB44-234D79311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7FE4A-D79A-4983-9856-BDED0CCD2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C6C54-4B83-4826-A080-9CB84B1E7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7EAC6-9265-4DFD-8A31-05A402410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63499-DD41-4DAB-9DDD-42C46A4E5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A5572-869A-4242-87DC-E39C6EBF1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B690E-02BA-400A-A0D9-5080FB5D2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AB8F9-487B-4B23-840E-7C069E5DE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8FE01-799B-4140-866F-09C0604C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9D71A-E813-4BD7-B445-FABA50A28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4AAC2-DB94-4FE5-8CF0-4B7894C0C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78003-6519-4A52-B9F6-BE581513F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80ED3-2C53-4794-BD7D-676662CA9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5093F-FA5C-459D-AB36-1C76F14E3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AF7E4-9979-4939-AD04-C468515DE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70EFA-C650-46D0-832F-603CB313F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851AA-E803-4947-9A43-46A976149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E0E88-BC0D-4C0D-A346-C1837D305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B4662-1B70-4518-9864-6D64AEB4C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BC68A-2360-4339-B102-BB21F328F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AE426-2E5C-429A-B385-11C94EAAB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DBE86-B7EE-4CA8-81E0-889183E8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58829-950F-431B-AC33-7B601B5798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42E81-0D23-42B9-B708-625F4462DF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apereira@usp.br" TargetMode="External"/><Relationship Id="rId2" Type="http://schemas.openxmlformats.org/officeDocument/2006/relationships/hyperlink" Target="mailto:pereirace@uol.com.br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Escolha Social, Estratégia e Racionalidade: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600"/>
            </a:b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Uma Introdução à Teoria dos Jogos na Polít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Aula 10 (10/11/2004)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Arial"/>
              </a:rPr>
              <a:t>Modelo Espacial, Voto Majoritário e Teorema do Voto Mediano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fessor: </a:t>
            </a:r>
            <a:r>
              <a:rPr b="0" lang="pt-BR" sz="1400" spc="-1" strike="noStrike" u="sng">
                <a:solidFill>
                  <a:srgbClr val="000000"/>
                </a:solidFill>
                <a:uFillTx/>
                <a:latin typeface="Arial"/>
              </a:rPr>
              <a:t>Carlos Pereira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t-BR" sz="1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capereira@usp.br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lang="pt-BR" sz="14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pereirace@uol.com.br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orias Cíclica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57200" y="1981080"/>
          <a:ext cx="4259160" cy="3886200"/>
        </p:xfrm>
        <a:graphic>
          <a:graphicData uri="http://schemas.openxmlformats.org/drawingml/2006/table">
            <a:tbl>
              <a:tblPr/>
              <a:tblGrid>
                <a:gridCol w="1419480"/>
                <a:gridCol w="1419840"/>
                <a:gridCol w="1419840"/>
              </a:tblGrid>
              <a:tr h="97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5435640" y="2060640"/>
            <a:ext cx="338436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aioria {1, 3} prefere ‘a’ em relação a ‘b’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aioria {1, 2} prefere ‘b’ em relação a ‘c’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aioria {2, 3} prefere ‘c’ em relação a ‘a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Ciclo de Condorcet versus Condorcet vencedor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regra da maioria é muito boa quando o número de indivíduos (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) e preferências (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) são reduzid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Pr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) = [# de indivíduos / (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!)</a:t>
            </a:r>
            <a:r>
              <a:rPr b="0" lang="pt-BR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o nosso exemplo, Pr (3, 3) = 12 / 216 = 0.056; ou seja, 12 possibilidades de ciclos e 204 de vencedores consistentes sob a regra da maior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probabilidade de intransitividade (ciclos) em preferências majoritárias é uma razão do tamanho do grupo (n) e do número de alternativas (m) disponíve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er display 4.2 e 4.3 pp. 51 e 52; e Tabela 4.1 pp. 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ã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ão é possível se fiar na regra da maioria para representar o que de fato o grupo prefere, especialmente se não existem mecanismos institucionais que restrinjam a participação (manter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pequeno) bem como não leve em consideração algumas das alternativas (manter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pequen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iste uma espécie d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trade-off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ntre racionalidade social e concentração de poder. Sociedades que concentram poder oferecem maiores chances de coerência social nas suas decisões coletivas; já nas sociedades que dispersam poder, embora pareçam mais democráticas, tem menos chances de tomar decisões majoritariamente coer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eorema de Arrow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rrow acreditava que os problemas de incoerências em escolhas sociais apontados pelo paradoxo de Condorcet (agregação de preferências individuais em preferência do grupo) poderiam ser mitigados se a estrutura do arranjo institucional de tomada de decisão social fosse diferente (ele ganhou o Prêmio Nobel pelo seu trabalho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Social Choice and Individual Value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, 1951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ições mínimas para uma agregação ‘razoável’ das preferências individua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parabilidade entre alternat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ransitividade na escolha de alternat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dmissibilidade Universal (U) das alternat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Ótimo de Pareto ou Unanimidade (P) = se todos os membros de um dado grupo preferem a alternativa ‘j’ sobre a ‘k’ (ou é indiferente entre elas) a preferência do grupo também deve refletir esta preferê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dependência das Alternativas Irrelevantes (I) = se as alternativas ‘j’ e ‘k’ tem uma ordem particular e constante para cada membro do grupo, esta preferência no grupo tende a se reproduzir mesmo se houver mudanças sobre outras alternativas irreleva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ão Ditadura (D) = Não exista nenhum indivíduo que dite de forma autoritária a sua preferência no gru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lem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ão existe mecanismo que traduza as preferências de indivíduos racionais em preferências coerentes de um grupo que simultaneamente satisfaça as condições U, P, I e 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quer esquema que satisfaçam as  condições U, P e I ou são ditatoriais ou incoerentes (intransitiva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sto significa que sempre a agregação de preferências é inconsistente ou injus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 maneira nenhuma, afirma Shepsle. Como visto, o exemplo dos três eleitores e três alternativas, á regra da maioria fornece coerência nas preferências de um grupo em 204 das 216 possíveis interações satisfazendo as condições U, P, I e 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e método apenas não garante coerência de preferências no grupo em todas as situaçõ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 seja, a pressuposição da racionalidade é violada no grupo em algumas ocasiõ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víduos são racionais, mas os grupos nem semp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o Espacial e a Regra da Maiori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000000"/>
                </a:solidFill>
                <a:uFillTx/>
                <a:latin typeface="Arial"/>
              </a:rPr>
              <a:t>Preferências de Pico Únic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= um tipo de consenso que facilita a coerência das decisões majoritári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ucan Black acreditava que formas de consenso próximas da unanimidade podem ser suficientes para produzir coerência nas decisões coletiv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Teorema de Pico Único de Black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ando um conjunto de alternativas ‘A’ que um grupo ‘G’ de indivíduos tem que escolher, se para cada sub-conjunto de três alternativas em ‘A’, uma dessas alternativas não é ‘nunca pior’ dentre as três disponíveis para cada membro do grupo, então este é um consenso suficiente para que o método da regra majoritária ofereça transitividade (ausência de ciclos, caos) nas preferências do gru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 seja, as preferências dos membros de um grupo são consideradas de pico único se as alternativas disponíveis puderem ser representadas como pontos em uma linha e cada uma das utilidades atingiriam o seu ponto máximo em um dado ponto desta linha e diminuiria sua utilidade o distanciamento ou desvio deste ponto máxi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Teorema do Voto Mediano (Black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 os membros de um dado grupo ‘G’ têm uma preferência de Pico Único, então o ponto ideal do voto mediano tem uma área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winset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 vazio. Ou seja, Não existe outro ponto alternativo melhor (ou menos pior) do que o pico único que possa ser preferido pelas maiorias possíveis. (ver figura 5.3, pp. 86 – 89). Assim o pico será a escolha da mai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ntretanto, s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winset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e um dado ponto ‘x’ não estiver vazio (existem outros pontos melhores para a maioria) então é mais difícil se justificar a escolha de ‘x’. Ou seja, as preferências do grupo são inconsistentes uma vez que algumas maiorias preferirem outra alternativa dentre as disponíve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colha Socia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smo quando membros de um grupo possuem preferências coerentes – comparáveis e transitivas – o grupo pode não se comportar coerentemen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 seja, a preferência do grupo pode ser intransitiva e por isso ser cíclica com diferentes coalizões majoritárias dando apoios a cada coalizão vencedo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suposições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 os grupos sejam formados um número impar de participan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 todos os participantes participem totalm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 os participantes são sincero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 que dizer das situações multidimensiona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orema de Plott: Se eleitores possuem preferências distantes espacialmente; se seus pontos ideais forem distribuídos de forma simétrica; com um dado ponto ideal ‘x’ distinto sobre os demais; e com o número impar de eleitores; então o winset será vazio e as preferências do grupo coer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orema do Caos de McKelvey: em espaçõs multidimensionais, com a exceção da rara distribuição simétrica de pontos que raramente ocorre naturalmente, não existirá um winset vazio proporcionado pela regra majoritária. Ao invés disso, haverá o caos – sem um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Condorcet winne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– onde qualquer coisa pode acontecer e quem controlar a ordem da votação poderá determinar o resultado fi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Voto Mediano(Anthony Down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m eleições, competidores tendem ao centro. Por q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encer não é tudo, mas é a única coisa que importa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r isso, existe uma convergência comum do ponto ideal do voto mediano. Esta tendência centrípeta é exatamente o que foi predito pelo Teorema do voto mediano de Black. Precisamente, o modelo de Downs oferece a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rational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o porque a regra majoritária é centrípe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que dizer de situações quando um terceiro candidato resolve entrar na disputa. A regra majoritária continuaria a exercer este papel centrípe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ribuição de Preferência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e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r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teb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r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teb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r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teb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e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e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Será que a regra da maioria resolveria este problem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ma rápida inspeção na tabela anterior sugere que a regra da maioria não é um bom método para solucionar este proble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O que dizer então se forem instituídos dois turnos de votaçã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drawingml/2006/table">
            <a:tbl>
              <a:tblPr/>
              <a:tblGrid>
                <a:gridCol w="3683160"/>
                <a:gridCol w="1152360"/>
                <a:gridCol w="3394080"/>
              </a:tblGrid>
              <a:tr h="129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eu vs. Concerto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rto vence por 2-1 {B, C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eu vs. Futebol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tebol vence por 2-1 {B, C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rto vs. Futebol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rto vence por 2-1 {A, B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ervaçõ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 para o concerto é a preferência majoritária diante dos dois turnos de vot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erentes maiorias preferem ir para o concerto. O jogador “B” é o único membro comum destas distintas maiori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icaçõ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gra da maioria em turno único não proporciona resultados consistentes e não ambíguos. Em dois turnos, apenas se os jogadores jogam de forma since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e método até agora assumiu que os jogadores (amigos) revelaram de forma honesta (sincera) as suas preferênci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que dizer das situações de voto estratégico ou sofisticado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se o número de jogadores e de alternativas forem maiores do que trê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stem muitas formas de se votar e a decisão sobre qual regra adotar terá um impacto decisivo para se determinar o vence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Controlar a agenda faz diferenç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1981080"/>
          <a:ext cx="8229600" cy="4694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3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enda 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enda 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enda 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e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teb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r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r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e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teb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teb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r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e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ncedor é Futeb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ncedor é Concer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ncedor é Muse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O Paradoxo de Condorc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esmo quando cada indivíduo que pertence a um grupo têm preferências que são consistentes (completas e transitivas) isso não é necessariamente verdadeiro para o grup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ta disjunção entre as preferências do grupo e as preferências individuais é conhecida como paradoxo de Condorcet (cientista e matemático francês do século dezoito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0T00:12:56Z</dcterms:created>
  <dc:creator>Carlos Pereira</dc:creator>
  <dc:description/>
  <dc:language>en-US</dc:language>
  <cp:lastModifiedBy>Carlos Pereira</cp:lastModifiedBy>
  <dcterms:modified xsi:type="dcterms:W3CDTF">2004-11-10T16:10:44Z</dcterms:modified>
  <cp:revision>36</cp:revision>
  <dc:subject/>
  <dc:title>Escolha Social, Estratégia e Racionalidade:  Uma Introdução à Teoria dos Jogos na Polític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116218327</vt:r8>
  </property>
  <property fmtid="{D5CDD505-2E9C-101B-9397-08002B2CF9AE}" pid="3" name="_AuthorEmail">
    <vt:lpwstr>capereira@usp.br</vt:lpwstr>
  </property>
  <property fmtid="{D5CDD505-2E9C-101B-9397-08002B2CF9AE}" pid="4" name="_AuthorEmailDisplayName">
    <vt:lpwstr>Carlos Pereira</vt:lpwstr>
  </property>
  <property fmtid="{D5CDD505-2E9C-101B-9397-08002B2CF9AE}" pid="5" name="_EmailSubject">
    <vt:lpwstr>Teoria dos Jogos Novas aulas</vt:lpwstr>
  </property>
</Properties>
</file>